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014120" y="723600"/>
            <a:ext cx="4830840" cy="36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587840"/>
            <a:ext cx="502920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D98F-9658-44DB-8FDD-67FE4AC1705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88584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AFD8-DC6D-402B-9530-42B81552F4C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023840" y="731880"/>
            <a:ext cx="4811760" cy="36082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587840"/>
            <a:ext cx="502920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584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9296-5B06-4EDC-AEB5-BEC04806252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23840" y="731880"/>
            <a:ext cx="4811760" cy="3608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587840"/>
            <a:ext cx="502920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88584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A125-AE1D-47EE-8BB4-1C35F84560C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23840" y="731880"/>
            <a:ext cx="4811760" cy="3608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587840"/>
            <a:ext cx="502920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388584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A0BA-493E-400C-ABA0-45A7A34BBBD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023840" y="731880"/>
            <a:ext cx="4811760" cy="36082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587840"/>
            <a:ext cx="502920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513F5-26CE-4C49-ADAC-6B400134F5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1600" y="405900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9619C-393D-4BF3-A043-1DBC6427A8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38228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9993D-32DF-4951-973E-03BB7C57A6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8304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0412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6160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8304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0412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883CC-C2A4-4833-9A57-8FF11BE0BD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1A248-A6ED-48C1-881B-30F1F11968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C80EA-15AE-4912-8346-F041512EF5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43E52-BA16-4EA0-B8BB-B2B0CDC029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81E0A-4934-4DBB-B70A-8763DA456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09600" y="151920"/>
            <a:ext cx="5908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76239-C8CF-4B8F-8D15-F693A488F3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2FB21-A318-4433-B099-C13D70FEA4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38228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9D257-CC65-4481-9817-6DC390DFFF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2BAEE-B30F-402A-88D8-B7B96A465F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43240" y="6400800"/>
            <a:ext cx="267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ANO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330960" y="6400800"/>
            <a:ext cx="175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2F7A-D077-433D-B9BC-A4E9C5DD307D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467840" cy="114300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VARIANCIAANALÍZIS (ANOVA) véletlen faktorok eseté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3258720"/>
            <a:ext cx="66294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Variancia-komponens-elemz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A1A7F-B2B0-42A5-A3A7-38312DDF88CD}" type="slidenum">
              <a:t>1</a:t>
            </a:fld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990720" y="914400"/>
          <a:ext cx="6553080" cy="490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914400"/>
                    <a:ext cx="6553080" cy="49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813240" y="270000"/>
            <a:ext cx="44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z eredeti átlag-terjedelem-kárty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6000" y="6019920"/>
            <a:ext cx="52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j van!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bil a gyártási folyama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2A3A3-9FC9-4CB0-9920-ED7505676A55}" type="slidenum">
              <a:t>10</a:t>
            </a:fld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1371600"/>
            <a:ext cx="777240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it is akarunk az ellenőrző kártyáv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különíteni a véletlen ingadozást a veszélyes hibától. A véletlen ingadozást a szokásos esetben a mintán belüli eltérések mutatjá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tt a mintán belüli ingadozás csak egy része a véletlen ingadozásnak, a hónapok közöttit is figyelembe kell ven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D35CC-09DA-4AD1-9F8C-CBE928DAB9B2}" type="slidenum">
              <a:t>11</a:t>
            </a:fld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763120" cy="2062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46760" y="2819520"/>
            <a:ext cx="81345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hónapok közötti különbség tehát jelentő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djunk becslést az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faktor (a hónapok) hatásának varianciájár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09480" y="4114800"/>
                <a:ext cx="48006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3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2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3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449280" y="510552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ismétlések varianciájának becslé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819520" y="5867280"/>
                <a:ext cx="19810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2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79080" y="152280"/>
            <a:ext cx="36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VA (varianciaanalízi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79360-31A0-4AC1-88F7-EADDE2A0F083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62120" y="2743200"/>
                <a:ext cx="14954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62120" y="1905120"/>
                <a:ext cx="19810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2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746280" y="574560"/>
            <a:ext cx="786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beavatkozási határokat a szokásos esetben az ismétlések ingadozásából számolju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0920" y="1828800"/>
            <a:ext cx="52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ismétlések szórásnégyzetének becsl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274320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hónapok közötti ingadozás szórásnégyzetének becsl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838080" y="4038480"/>
                <a:ext cx="1752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 flipV="1">
            <a:off x="762120" y="18288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1828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62120" y="25905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5909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65760" y="4191120"/>
            <a:ext cx="552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zt kell a kártya beavatkozási határaiho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sznál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14400" y="5410080"/>
                <a:ext cx="38606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35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2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94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 flipV="1">
            <a:off x="838080" y="54860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ACAE6-3757-41CD-8102-7AEF61510A2D}" type="slidenum">
              <a:t>13</a:t>
            </a:fld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838080" y="1143000"/>
          <a:ext cx="6782040" cy="50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143000"/>
                    <a:ext cx="6782040" cy="50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669960" y="11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2240" y="27000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kétrétegű ingadozást (hónap és ismétlés) figyelembe vevő beavatkozási határokkal rajzolt  kárt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617AE-4D8B-42C7-95F0-D10C74941A0D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60984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ereszt-osztályozás két véletlen faktor szeri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905120"/>
            <a:ext cx="6950160" cy="404208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. pél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y elemzést nemcsak különböző napokon végeztek el, hanem különböző személyek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, hogy a mérést különböző napokon és különböző személyek végzik, okoz-e többlet-ingadozást az egy nap egy személy végezte ismétlések szóródásához képe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0987C-6100-44BC-A98F-2522475DDD93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0" y="1066680"/>
          <a:ext cx="8691480" cy="448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869148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0852D-A6FC-4602-9F9E-039A55BD4AA2}" type="slidenum">
              <a:t>16</a:t>
            </a:fld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124080" y="914400"/>
                <a:ext cx="36990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685800" y="5181480"/>
            <a:ext cx="6416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példában 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3,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4,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6200" y="91332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o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6720" y="4342320"/>
            <a:ext cx="53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1,…,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;  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1,…,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;  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=1,…,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(ismétlé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00680" y="1904040"/>
            <a:ext cx="64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ap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emély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ölcsönhatás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smétlési hi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743200" y="1371600"/>
            <a:ext cx="167652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191120" y="1371240"/>
            <a:ext cx="76176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5638680" y="137160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6477120" y="1447560"/>
            <a:ext cx="121896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0960" y="350424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üggetlene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62120" y="2895480"/>
                <a:ext cx="17366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174840" y="2882880"/>
                <a:ext cx="17892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6080040" y="2806560"/>
                <a:ext cx="20732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825480" y="3581280"/>
                <a:ext cx="160812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6094B-DBC3-40F1-89E4-6D6918689890}" type="slidenum">
              <a:t>17</a:t>
            </a:fld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57200" y="685800"/>
                <a:ext cx="3733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772080" y="1828800"/>
                <a:ext cx="14792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772080" y="2666880"/>
                <a:ext cx="14824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770280" y="3505320"/>
                <a:ext cx="17017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79440" y="182772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nullhipotézis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066680" y="4495680"/>
                <a:ext cx="33973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total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986400" y="5409000"/>
            <a:ext cx="44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övelik az ingadozást? Mennyi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96280" y="684720"/>
            <a:ext cx="43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nap, személy, kölcsönhatás, hi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8AF67-8380-4BD9-896D-67EEE91C3945}" type="slidenum">
              <a:t>18</a:t>
            </a:fld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0" y="1295280"/>
          <a:ext cx="9144000" cy="495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14400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763560" y="533520"/>
            <a:ext cx="2687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NOVA-tábláz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96A81-F2AB-4F81-B74C-80B9C401D5FA}" type="slidenum">
              <a:t>19</a:t>
            </a:fld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380880"/>
            <a:ext cx="853452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Rögzített faktorok: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intjeiket a kísérletekhez megválaszthatjuk és beállíthatjuk.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érdés: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an-e különbség a faktor különböző szintjei között, melyik közülük a legjob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Véletlen fakt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intjeit egy elképzelt sokaságból véletlenszerűen választjuk 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érdés: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faktornak van-e hatása az ingadozásra, több véletlen faktor közül melyik milyen mértékben járul hozzá az ingadozáshoz, a jövőben mekkora ingadozás várható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D358D-1B2D-4DB2-BC62-FA147E196C04}" type="slidenum">
              <a:t>2</a:t>
            </a:fld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0" y="1677960"/>
          <a:ext cx="9144000" cy="373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7960"/>
                    <a:ext cx="9144000" cy="37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830880" y="685800"/>
            <a:ext cx="363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példa adataival számolv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EC3BC-4842-48A0-852E-4312766DE294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0" y="2133720"/>
          <a:ext cx="8763120" cy="258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8763120" cy="25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457200" y="3031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tatistics&gt;Advanced Linear/Nonlinear Model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gt;General Linear Models&gt;Factorial AN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ptions fülön: Random Nap, Sz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47EAE-C28B-4F42-BCB8-DD11A0D8BFD2}" type="slidenum">
              <a:t>21</a:t>
            </a:fld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457200" y="380880"/>
          <a:ext cx="6858000" cy="25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6858000" cy="25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0" y="3048120"/>
          <a:ext cx="8458200" cy="3504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048120"/>
                    <a:ext cx="845820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D9DD2-062F-48EB-B610-30B24A37044F}" type="slidenum">
              <a:t>22</a:t>
            </a:fld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990720" y="3733920"/>
          <a:ext cx="6400800" cy="25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733920"/>
                    <a:ext cx="6400800" cy="25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0" y="0"/>
          <a:ext cx="9448920" cy="3581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4489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11969-C93C-4D44-9028-536969C3460A}" type="slidenum">
              <a:t>23</a:t>
            </a:fld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0" y="0"/>
          <a:ext cx="4495680" cy="310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495680" cy="31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33520" y="3200400"/>
                <a:ext cx="2394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4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38200" y="3862440"/>
                <a:ext cx="579744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317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43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2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17400" y="4929120"/>
                <a:ext cx="626112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8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43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225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4" name=""/>
          <p:cNvGraphicFramePr/>
          <p:nvPr/>
        </p:nvGraphicFramePr>
        <p:xfrm>
          <a:off x="4495680" y="457200"/>
          <a:ext cx="4648320" cy="219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457200"/>
                    <a:ext cx="464832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 flipV="1">
            <a:off x="533520" y="320040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32004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57200" y="403848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40384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09480" y="5105160"/>
            <a:ext cx="1526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5105520"/>
            <a:ext cx="759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77016-3D3B-452D-95E7-2721539425EA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339480"/>
            <a:ext cx="7543800" cy="99684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ereszt-osztályozás két véletlen faktor szerint: Gage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R stud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94560" y="411480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lkatrés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8120" y="4114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perá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97920" y="289548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smétlési hi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1640" y="41148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ölcsönha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990720" y="2590920"/>
                <a:ext cx="36813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 flipV="1">
            <a:off x="2133720" y="3047760"/>
            <a:ext cx="15228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3047760" y="3123720"/>
            <a:ext cx="68580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3657600" y="3124080"/>
            <a:ext cx="137160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4647960" y="2895120"/>
            <a:ext cx="14475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80B21-11DA-47AA-AD4C-7A3741581A34}" type="slidenum">
              <a:t>25</a:t>
            </a:fld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7924680" cy="34369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9480" y="709200"/>
            <a:ext cx="7772400" cy="203760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. pél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ox-Hunter-Hunter: Statistics for Experimenters, J. Wiley, 1978, p. 2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enicillin gyártása, 4 technológiát akarnak összehasonlítani, a kukoricalekvár-adagok különbözn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6280" y="594252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incs ismét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70920" y="0"/>
            <a:ext cx="2382840" cy="52056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Véletlen blok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5470B-9DD2-4229-BB24-E29345A85B0F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066680" y="1066680"/>
                <a:ext cx="36752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62120" y="2971800"/>
                <a:ext cx="27907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762120" y="4114800"/>
                <a:ext cx="15001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85800" y="5410080"/>
                <a:ext cx="17398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3657600" y="2842200"/>
            <a:ext cx="518148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ülönbözik az egyes technológiákkal elérhető kitermelé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egnöveli a kuk. lekvár-adagok közötti különbség a kitermelés ingadozásá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an kölcsönhatás közöttü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840" y="30384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o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048120" y="343080"/>
                <a:ext cx="404496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1295280" y="1904040"/>
            <a:ext cx="33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echnológi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uk.lekvá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057400" y="15238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3123720" y="152352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BDB1C-50CD-44D2-A56C-847A7FA15FA9}" type="slidenum">
              <a:t>27</a:t>
            </a:fld>
          </a:p>
        </p:txBody>
      </p:sp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0" y="990720"/>
          <a:ext cx="9104400" cy="500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0440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688320" y="304920"/>
            <a:ext cx="3188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ANOVA-tábláz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6781680" y="4952880"/>
                <a:ext cx="180972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228600" y="6107760"/>
            <a:ext cx="1666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1, </a:t>
            </a: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ism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724280" y="304920"/>
                <a:ext cx="40100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2C663-5514-4E02-B5BE-A6C101EC07C8}" type="slidenum">
              <a:t>28</a:t>
            </a:fld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380880" y="152280"/>
          <a:ext cx="7543800" cy="20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280"/>
                    <a:ext cx="754380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33520" y="2362320"/>
                <a:ext cx="367488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5026680" y="236124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e nincs ismét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990720" y="5562720"/>
                <a:ext cx="266040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5103720" y="563760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nincs kölcsönhatá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09480" y="3581280"/>
          <a:ext cx="7543800" cy="201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581280"/>
                    <a:ext cx="7543800" cy="20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594720" y="3123000"/>
            <a:ext cx="28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ain effects AN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B400B-43E0-4935-9F65-1FE4A59D0A56}" type="slidenum">
              <a:t>29</a:t>
            </a:fld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8080" y="426960"/>
            <a:ext cx="7467840" cy="51912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 véletlen faktor szerinti varianciaanalíz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1600200"/>
            <a:ext cx="7772400" cy="192096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. pél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y elemzést három napon kétszer-kétszer végeztek 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koz-e ingadozást az, hogy különböző napokon végezték a mérések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914400" y="3733920"/>
          <a:ext cx="6477120" cy="236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733920"/>
                    <a:ext cx="647712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CDC4B-2C36-4CAC-B2EF-B5195BA24480}" type="slidenum">
              <a:t>3</a:t>
            </a:fld>
          </a:p>
        </p:txBody>
      </p: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3809880" y="2209680"/>
          <a:ext cx="4800600" cy="20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209680"/>
                    <a:ext cx="4800600" cy="20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3503520" cy="44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"/>
          <p:cNvGraphicFramePr/>
          <p:nvPr/>
        </p:nvGraphicFramePr>
        <p:xfrm>
          <a:off x="380880" y="0"/>
          <a:ext cx="7543800" cy="2048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0"/>
                    <a:ext cx="754380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3886200" y="4343400"/>
          <a:ext cx="5257800" cy="1957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86200" y="4343400"/>
                    <a:ext cx="5257800" cy="19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8A186-F000-458D-B7DA-7154FD78B215}" type="slidenum">
              <a:t>30</a:t>
            </a:fld>
          </a:p>
        </p:txBody>
      </p:sp>
    </p:spTree>
  </p:cSld>
  <p:transition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4495680" y="1447920"/>
          <a:ext cx="4038840" cy="168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447920"/>
                    <a:ext cx="4038840" cy="16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114800" y="3809880"/>
                <a:ext cx="43052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304920" y="457200"/>
            <a:ext cx="3865320" cy="4876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 flipH="1">
            <a:off x="6629400" y="24382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0" y="23612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6629400" y="2590920"/>
            <a:ext cx="8380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DC903-BA2E-4E1F-830E-FEFCD9CC1F5E}" type="slidenum">
              <a:t>31</a:t>
            </a:fld>
          </a:p>
        </p:txBody>
      </p:sp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559840" y="228600"/>
            <a:ext cx="33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reziduumok ellenőrz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0" y="0"/>
          <a:ext cx="5105520" cy="38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105520" cy="38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4038480" y="2514600"/>
          <a:ext cx="487692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2514600"/>
                    <a:ext cx="48769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9CE58-E915-4633-95B6-A9F63A4F3D03}" type="slidenum">
              <a:t>32</a:t>
            </a:fld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09600" y="247320"/>
            <a:ext cx="5908680" cy="56988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Hierarchikus osztályozá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90720" y="1143000"/>
            <a:ext cx="68738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. pél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ox, Hunter és Hunter (1978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estékgyári nedvesség-tartalom-meghatározás: 15 gyártott adagból két-két mintát vesznek, mindkettőnek a víztartalmát kétszer-kétszer megméri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82760" y="3225960"/>
            <a:ext cx="8026200" cy="2844720"/>
            <a:chOff x="482760" y="3225960"/>
            <a:chExt cx="8026200" cy="2844720"/>
          </a:xfrm>
        </p:grpSpPr>
        <p:sp>
          <p:nvSpPr>
            <p:cNvPr id="253" name=""/>
            <p:cNvSpPr/>
            <p:nvPr/>
          </p:nvSpPr>
          <p:spPr>
            <a:xfrm>
              <a:off x="666720" y="3260880"/>
              <a:ext cx="681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gyártott adagok         1                   2           …           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7440" y="3794040"/>
              <a:ext cx="7358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minták                  1        2          3       4      …       29       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0760" y="4861080"/>
              <a:ext cx="7799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elemzés             1   2    3   4      5   6   7   8   …   57  58   59  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74880" y="51656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6360" y="4251240"/>
              <a:ext cx="7430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(1)     (2)        (1)    (2)     …      (1)       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7680" y="54705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3480" y="5318280"/>
              <a:ext cx="7741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(1) (2) (1) (2)  (1) (2) (1) (2) …  (1)  (2) (1)  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089840" y="3660840"/>
              <a:ext cx="22536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822040" y="4651200"/>
              <a:ext cx="14940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3584160" y="4651200"/>
              <a:ext cx="14940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575240" y="4651200"/>
              <a:ext cx="14904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5336640" y="4651200"/>
              <a:ext cx="14940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708240" y="4727520"/>
              <a:ext cx="14940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7698960" y="4651200"/>
              <a:ext cx="14940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32240" y="3660840"/>
              <a:ext cx="30168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3127320" y="3660840"/>
              <a:ext cx="30168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803840" y="3660840"/>
              <a:ext cx="22536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32440" y="3660840"/>
              <a:ext cx="22536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18440" y="3660840"/>
              <a:ext cx="30168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75040" y="4651200"/>
              <a:ext cx="14904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36800" y="4651200"/>
              <a:ext cx="14940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803840" y="4651200"/>
              <a:ext cx="14904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65600" y="4651200"/>
              <a:ext cx="14940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37200" y="4727520"/>
              <a:ext cx="14940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27920" y="4651200"/>
              <a:ext cx="14940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82760" y="3225960"/>
              <a:ext cx="8026200" cy="28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00B66-B225-413F-9E7D-5617A678A30F}" type="slidenum">
              <a:t>33</a:t>
            </a:fld>
          </a:p>
        </p:txBody>
      </p:sp>
    </p:spTree>
  </p:cSld>
  <p:transition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0" y="1447920"/>
          <a:ext cx="784872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784872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746280" y="822240"/>
            <a:ext cx="7407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adatok táblázatának egy rész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22240" y="898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ED787-23A4-43C2-AECA-864592AB4A4C}" type="slidenum">
              <a:t>34</a:t>
            </a:fld>
          </a:p>
        </p:txBody>
      </p:sp>
    </p:spTree>
  </p:cSld>
  <p:transition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835560" y="533520"/>
            <a:ext cx="141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mode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819520" y="533520"/>
                <a:ext cx="31906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2132640" y="1751400"/>
            <a:ext cx="47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dag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int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nalíz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666880" y="914400"/>
            <a:ext cx="137160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495680" y="1066320"/>
            <a:ext cx="15264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5715000" y="1066320"/>
            <a:ext cx="45720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1143000" y="2971800"/>
                <a:ext cx="17366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708360" y="2959200"/>
                <a:ext cx="178920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208560" y="2882880"/>
                <a:ext cx="19702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k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d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1050120" y="38088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üggetlen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5DD1B-DF00-4FD5-9F12-F78CF512F5B8}" type="slidenum">
              <a:t>35</a:t>
            </a:fld>
          </a:p>
        </p:txBody>
      </p:sp>
    </p:spTree>
  </p:cSld>
  <p:transition>
    <p:checke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0" y="1295280"/>
          <a:ext cx="9144000" cy="335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14400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685440" y="457200"/>
            <a:ext cx="2766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ANOVA-tábláz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80880" y="4800600"/>
                <a:ext cx="1481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: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2895480" y="4800600"/>
                <a:ext cx="10782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/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B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57200" y="5562720"/>
                <a:ext cx="14810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r>
                      <m:t xml:space="preserve">: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2819520" y="5562720"/>
                <a:ext cx="11890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Sup>
                      <m:e/>
                      <m:sub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/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019920" y="4419720"/>
                <a:ext cx="19954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019920" y="5334120"/>
                <a:ext cx="19954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 flipV="1">
            <a:off x="6019920" y="4647960"/>
            <a:ext cx="1522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172200" y="4648320"/>
            <a:ext cx="1522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943600" y="5486400"/>
            <a:ext cx="2286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72200" y="54864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16D9F-8153-4374-8CBE-8392F8CB9B49}" type="slidenum">
              <a:t>36</a:t>
            </a:fld>
          </a:p>
        </p:txBody>
      </p:sp>
    </p:spTree>
  </p:cSld>
  <p:transition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"/>
          <p:cNvGraphicFramePr/>
          <p:nvPr/>
        </p:nvGraphicFramePr>
        <p:xfrm>
          <a:off x="457200" y="990720"/>
          <a:ext cx="8458200" cy="20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8458200" cy="20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762120" y="3581280"/>
          <a:ext cx="4724280" cy="169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581280"/>
                    <a:ext cx="4724280" cy="16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8A596-9616-4A56-8EE3-2BA43B0A471A}" type="slidenum">
              <a:t>37</a:t>
            </a:fld>
          </a:p>
        </p:txBody>
      </p:sp>
    </p:spTree>
  </p:cSld>
  <p:transition>
    <p:checke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61722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Egy rögzített és két véletlen faktor: latin négyze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8077320" cy="25351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09480" y="1368000"/>
            <a:ext cx="8153640" cy="210564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. pél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ox-Hunter-Hunter: Statistics for Experimenters, J. Wiley, 1978, p. 2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égy benzin-adalékot hasonlítanak össze szennyezés-kibocsátás szempontjából. Gondolni kell az autók és vezetők esetleges különbözőségére is (blokk-faktorok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3480" y="5942520"/>
            <a:ext cx="79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ezető: 1,…,4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utó: I,…,IV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dalék: A, B, C,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EBE65-4C1E-4ED2-A521-D0DA3BE7EDDB}" type="slidenum">
              <a:t>38</a:t>
            </a:fld>
          </a:p>
        </p:txBody>
      </p:sp>
    </p:spTree>
  </p:cSld>
  <p:transition>
    <p:checke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1219320" y="914400"/>
                <a:ext cx="33271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385920" y="30384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o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80600" y="837000"/>
            <a:ext cx="20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smétlés nélkü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914400" y="2590920"/>
                <a:ext cx="6730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β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611280" y="190404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teljes modell ilyen lenne: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3441600" y="304920"/>
                <a:ext cx="51008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6482520" y="19040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hu-H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kísérle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09480" y="3429000"/>
            <a:ext cx="8077320" cy="253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A44B4-24B5-4AA8-AB2B-8F50E150F939}" type="slidenum">
              <a:t>39</a:t>
            </a:fld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685440" y="762120"/>
            <a:ext cx="4261320" cy="477720"/>
            <a:chOff x="685440" y="762120"/>
            <a:chExt cx="4261320" cy="477720"/>
          </a:xfrm>
        </p:grpSpPr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2971800" y="762120"/>
                  <a:ext cx="1974960" cy="47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m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6" name=""/>
            <p:cNvSpPr/>
            <p:nvPr/>
          </p:nvSpPr>
          <p:spPr>
            <a:xfrm>
              <a:off x="685440" y="762120"/>
              <a:ext cx="148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A modell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438280" y="1416240"/>
            <a:ext cx="6019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 faktor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szintjének (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nap) hat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özös érték;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+1 paramé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834120" y="2894400"/>
            <a:ext cx="6014160" cy="459720"/>
            <a:chOff x="834120" y="2894400"/>
            <a:chExt cx="6014160" cy="459720"/>
          </a:xfrm>
        </p:grpSpPr>
        <p:sp>
          <p:nvSpPr>
            <p:cNvPr id="59" name=""/>
            <p:cNvSpPr/>
            <p:nvPr/>
          </p:nvSpPr>
          <p:spPr>
            <a:xfrm>
              <a:off x="834120" y="2894400"/>
              <a:ext cx="237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rögzített faktorná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3876480" y="2895480"/>
                  <a:ext cx="29718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: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1" name=""/>
          <p:cNvSpPr/>
          <p:nvPr/>
        </p:nvSpPr>
        <p:spPr>
          <a:xfrm>
            <a:off x="910800" y="396144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életlen faktorná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886200" y="4800600"/>
                <a:ext cx="1150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562720" y="4724280"/>
                <a:ext cx="1601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7162920" y="5410080"/>
                <a:ext cx="145080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886200" y="5410080"/>
                <a:ext cx="14461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6553080" y="5334120"/>
            <a:ext cx="2286000" cy="1143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962520" y="3962520"/>
                <a:ext cx="17366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51B22-F4F4-4B7F-A639-B49029254600}" type="slidenum">
              <a:t>4</a:t>
            </a:fld>
          </a:p>
        </p:txBody>
      </p:sp>
    </p:spTree>
  </p:cSld>
  <p:transition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685800" y="4343400"/>
          <a:ext cx="6095880" cy="18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343400"/>
                    <a:ext cx="6095880" cy="18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762120" y="1143000"/>
          <a:ext cx="4572000" cy="16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143000"/>
                    <a:ext cx="45720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595080" y="150840"/>
            <a:ext cx="839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tatistics&gt;Industrial Statistics &amp; Six Sigma&gt;Experimental Desig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gt;Latin squar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28936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tatistics&gt;Advanced Linear/Nonlinear Model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gt;General Linear Models&gt;Main effects AN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ptions fülön: Random factors: Driver, C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All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2CC36-E831-46F4-8030-7BDD59200CC9}" type="slidenum">
              <a:t>40</a:t>
            </a:fld>
          </a:p>
        </p:txBody>
      </p:sp>
    </p:spTree>
  </p:cSld>
  <p:transition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" name=""/>
          <p:cNvGraphicFramePr/>
          <p:nvPr/>
        </p:nvGraphicFramePr>
        <p:xfrm>
          <a:off x="685800" y="2895480"/>
          <a:ext cx="7086600" cy="34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95480"/>
                    <a:ext cx="7086600" cy="34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757800" y="2361240"/>
            <a:ext cx="37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ummary fülön: Coeffic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762120" y="228600"/>
          <a:ext cx="4800600" cy="214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28600"/>
                    <a:ext cx="480060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6076080" y="501840"/>
            <a:ext cx="283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ögzített faktorokké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ugyanaz az eredmé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FB9A5-9FF0-4E26-9DE4-5987D3D084BC}" type="slidenum">
              <a:t>41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914400"/>
          <a:ext cx="914400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440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458280" y="2275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NOVA-tábláz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286000" y="4724280"/>
                <a:ext cx="1990800" cy="18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p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num>
                      <m:den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105520" y="5334120"/>
                <a:ext cx="14461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7162920" y="5105520"/>
                <a:ext cx="101412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304920" y="6019920"/>
            <a:ext cx="99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8640" y="49518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60958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DCFB4-717C-4B6F-A6AA-6EF317896B11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2120" y="45720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ANOVA táblázat egy véletlen fakto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4191120"/>
            <a:ext cx="3733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fogadjuk a nullhipotéz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629400" y="4191120"/>
                <a:ext cx="14461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781680" y="5029200"/>
                <a:ext cx="101448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2" name=""/>
          <p:cNvGraphicFramePr/>
          <p:nvPr/>
        </p:nvGraphicFramePr>
        <p:xfrm>
          <a:off x="533520" y="1371600"/>
          <a:ext cx="7543800" cy="19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71600"/>
                    <a:ext cx="7543800" cy="19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1295280" y="2819520"/>
            <a:ext cx="990720" cy="380880"/>
          </a:xfrm>
          <a:prstGeom prst="ellipse">
            <a:avLst/>
          </a:pr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220FD-DD76-441A-8670-FFE8387A027D}" type="slidenum">
              <a:t>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1800" y="1522800"/>
            <a:ext cx="88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 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      hipotézist elutasítjuk, becsülnünk kell a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varianciá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90720" y="2286000"/>
            <a:ext cx="2065320" cy="939960"/>
            <a:chOff x="990720" y="2286000"/>
            <a:chExt cx="2065320" cy="939960"/>
          </a:xfrm>
        </p:grpSpPr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990720" y="2743200"/>
                  <a:ext cx="206532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pσ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d>
                      <m:r>
                        <m:t xml:space="preserve">=</m:t>
                      </m:r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88" name=""/>
            <p:cNvSpPr/>
            <p:nvPr/>
          </p:nvSpPr>
          <p:spPr>
            <a:xfrm flipV="1">
              <a:off x="990720" y="2286000"/>
              <a:ext cx="758880" cy="22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6520" y="2286000"/>
              <a:ext cx="758880" cy="22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5029200" y="2666520"/>
            <a:ext cx="1120680" cy="560880"/>
            <a:chOff x="5029200" y="2666520"/>
            <a:chExt cx="1120680" cy="560880"/>
          </a:xfrm>
        </p:grpSpPr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5105520" y="2743200"/>
                  <a:ext cx="104436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92" name=""/>
            <p:cNvSpPr/>
            <p:nvPr/>
          </p:nvSpPr>
          <p:spPr>
            <a:xfrm flipV="1">
              <a:off x="5029200" y="2666520"/>
              <a:ext cx="225360" cy="149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57800" y="2666880"/>
              <a:ext cx="225360" cy="149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762120" y="3962520"/>
            <a:ext cx="1719000" cy="961920"/>
            <a:chOff x="762120" y="3962520"/>
            <a:chExt cx="1719000" cy="961920"/>
          </a:xfrm>
        </p:grpSpPr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762120" y="4038480"/>
                  <a:ext cx="1719000" cy="88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−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t xml:space="preserve">p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6" name=""/>
            <p:cNvSpPr/>
            <p:nvPr/>
          </p:nvSpPr>
          <p:spPr>
            <a:xfrm flipV="1">
              <a:off x="762120" y="3962520"/>
              <a:ext cx="225360" cy="14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90720" y="3962520"/>
              <a:ext cx="225360" cy="14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09480" y="457200"/>
                <a:ext cx="22240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p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419720" y="457200"/>
                <a:ext cx="13777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00" name=""/>
          <p:cNvGrpSpPr/>
          <p:nvPr/>
        </p:nvGrpSpPr>
        <p:grpSpPr>
          <a:xfrm>
            <a:off x="685800" y="1523880"/>
            <a:ext cx="6754680" cy="482760"/>
            <a:chOff x="685800" y="1523880"/>
            <a:chExt cx="6754680" cy="482760"/>
          </a:xfrm>
        </p:grpSpPr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685800" y="1523880"/>
                  <a:ext cx="144612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: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7010280" y="1523880"/>
                  <a:ext cx="430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03" name=""/>
          <p:cNvGraphicFramePr/>
          <p:nvPr/>
        </p:nvGraphicFramePr>
        <p:xfrm>
          <a:off x="4267080" y="3962520"/>
          <a:ext cx="4267440" cy="18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3962520"/>
                    <a:ext cx="426744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F02AF-1E3F-43BD-9242-E6C02239D414}" type="slidenum">
              <a:t>7</a:t>
            </a:fld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2120" y="685800"/>
            <a:ext cx="7315200" cy="389664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. péld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llenőrző kártya többrétegű ingadozás eseté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Gyógyszergyári ellenőrző laboratóriumban az eljárás stabilitását (időbeli állandóságát) úgy ellenőrzik, hogy egy ismert összetételű minta (ún. ellenőrző minta) hatóanyag-tartalmát havonta mérik, alkalmanként 3 ismétléss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E8ABA-A984-42F3-89F0-C033F4081DD6}" type="slidenum">
              <a:t>8</a:t>
            </a:fld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7162920" cy="5790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190F8-3CDC-4C4C-A515-64DB15D56B60}" type="slidenum">
              <a:t>9</a:t>
            </a:fld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17:27:07Z</dcterms:created>
  <dc:creator>Kemeny S.</dc:creator>
  <dc:description/>
  <dc:language>en-US</dc:language>
  <cp:lastModifiedBy>Sandor Kemeny</cp:lastModifiedBy>
  <cp:lastPrinted>2004-03-28T17:40:53Z</cp:lastPrinted>
  <dcterms:modified xsi:type="dcterms:W3CDTF">2008-04-14T15:40:21Z</dcterms:modified>
  <cp:revision>228</cp:revision>
  <dc:subject/>
  <dc:title>Folyamatkepessegi elemzes</dc:title>
</cp:coreProperties>
</file>