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689A-6DBE-4CD3-9A44-0380EB362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82356-429F-42BB-854C-9F7876A92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7033-32FE-43E2-8141-E0C9A5652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8304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412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160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8304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412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0705-738E-44A3-BD47-5340643F53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A304-C2A2-4765-89C4-17983480C8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C92A3-6C73-41EA-83A8-DDC4E6513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30BD-FEE7-4678-884B-19B1E249D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E5C7-2270-41E4-B8C0-F0691A8C0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0" y="151920"/>
            <a:ext cx="590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F8B1-D891-414A-9FCA-21E258794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CED6F-D9BF-4B1C-84BD-6EA716B96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19BA-B9E7-4F7B-9DF1-5F88B8758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724A-1AEA-468F-ABC4-3351292AB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3240" y="6400800"/>
            <a:ext cx="267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30960" y="640080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3F71-FCBF-43DE-B4B9-51E5511BDB0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66C792B-DC9D-41B0-BF67-E44F98B5987F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4724280" cy="9144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t faktor szerint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OV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2120" y="1964880"/>
            <a:ext cx="716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aktor minden szintjét kombináljuk a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aktor minden szintjével, minden "cellában azonos számú ismétlés (kiegyensúlyozott terv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erv szerkezete miatt a faktorok hatását egymásétól függetlenül vizsgálhatj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090FB-9B6D-4872-AFE9-E32C3E381B9E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3520" y="2286000"/>
          <a:ext cx="533376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533376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06800" y="253080"/>
            <a:ext cx="3705480" cy="5205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x-Cox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ranszformá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029200" y="228600"/>
                <a:ext cx="1039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λ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276480" y="959040"/>
            <a:ext cx="87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Ope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(Program Fi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StatSoft&gt;Statistica7&gt;Examples&gt;Macro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Analysis Examples&gt;BoxCo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238880" y="4572000"/>
                <a:ext cx="8953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9838C-629E-4468-B945-F8311A069E35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62120" y="1219320"/>
          <a:ext cx="594360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9436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8B6B-162A-4CC0-9010-A9A65C5F94D2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66680" y="152388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09480" y="533520"/>
                <a:ext cx="1062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86000" y="533520"/>
                <a:ext cx="2149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ln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5252400" y="53352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nest kell illeszt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467480" y="2133720"/>
                <a:ext cx="7635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391520" y="3200400"/>
                <a:ext cx="101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8452-4A0B-4003-8C1D-3005D21D0A9C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685800"/>
                <a:ext cx="1062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87560" y="4572000"/>
                <a:ext cx="3905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083120" y="3406680"/>
                <a:ext cx="1682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19520" y="533520"/>
                <a:ext cx="41148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26920" y="2057400"/>
                <a:ext cx="2030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074760" y="2056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103640" y="1828800"/>
                <a:ext cx="199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8F52-A4F7-478D-BEB2-7DCB172DE39B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85800" y="2448000"/>
          <a:ext cx="605160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48000"/>
                    <a:ext cx="6051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19320" y="609480"/>
                <a:ext cx="3905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 flipH="1">
            <a:off x="6705720" y="3429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029E2-0A64-43BE-9797-C6C85D688E25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228600"/>
          <a:ext cx="435456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435456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495680" y="2666880"/>
          <a:ext cx="4648320" cy="347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666880"/>
                    <a:ext cx="46483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017760" y="5335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lyett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8AED1-29B4-4362-BED0-89DB2CC93BB3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219320" y="838080"/>
          <a:ext cx="6553080" cy="490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530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754B-E325-479E-9FF4-3F79E250B5A1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90720" y="1143000"/>
          <a:ext cx="6019560" cy="23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601956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93640" y="4861080"/>
            <a:ext cx="80168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atások még kifejezettebbek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rtékei nagyobbak), a kölcsönhatáshoz tartozó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0.112 helyett 0.387 les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2EFF6-920F-48D2-ABC3-173C7FAE09C9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04920" y="1143000"/>
          <a:ext cx="434340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434340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800600" y="3048120"/>
          <a:ext cx="4343400" cy="32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048120"/>
                    <a:ext cx="4343400" cy="32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09840" y="30492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eziduumok vizsgá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0235-A451-4B2A-AC57-820E661B7677}" type="slidenum">
              <a:t>18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362320" y="1295280"/>
          <a:ext cx="5956200" cy="514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95280"/>
                    <a:ext cx="595620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609480" y="110880"/>
            <a:ext cx="8229600" cy="13003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Box-Hunter-Hunter: Statistics for Experimenters, J. Wiley, 1978, p. 165)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oison.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99C23-DDCF-4AB5-8AA8-98CA4EBF7AE9}" type="slidenum">
              <a:t>2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85800"/>
          <a:ext cx="723888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23888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DEE65-7938-4C4D-8E08-2D4E7F0A5B6F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133720" y="1219320"/>
                <a:ext cx="1773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0720" y="4419720"/>
                <a:ext cx="3537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446480" y="266580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ére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ezelé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438280" y="1752120"/>
            <a:ext cx="7621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428640" y="1752120"/>
            <a:ext cx="60948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9600" y="1904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343040" y="1676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4760" y="4561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1920" y="5378760"/>
            <a:ext cx="81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dik mére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dik kezelé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lcsönh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86000" y="495288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428640" y="495288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343400" y="4952880"/>
            <a:ext cx="23623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32280" y="30384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867280" y="1143000"/>
                <a:ext cx="275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qp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52AA-5801-41D5-83FE-9248BBEFCF01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514600" y="1446840"/>
            <a:ext cx="5517360" cy="459720"/>
            <a:chOff x="2514600" y="1446840"/>
            <a:chExt cx="5517360" cy="45972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2514600" y="1447920"/>
                  <a:ext cx="287028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: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⋅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6095160" y="1446840"/>
              <a:ext cx="193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ind azono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295280" y="609480"/>
            <a:ext cx="5152680" cy="534960"/>
            <a:chOff x="1295280" y="609480"/>
            <a:chExt cx="5152680" cy="53496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1295280" y="609480"/>
                  <a:ext cx="17733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>
              <a:off x="4721760" y="68472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átlag-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95280" y="2437200"/>
            <a:ext cx="6634800" cy="483840"/>
            <a:chOff x="1295280" y="2437200"/>
            <a:chExt cx="6634800" cy="48384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295280" y="2438280"/>
                  <a:ext cx="353700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α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>
              <a:off x="6170400" y="243720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hatás-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819520" y="3352680"/>
                <a:ext cx="2639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43200" y="4267080"/>
                <a:ext cx="2995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743200" y="5105520"/>
                <a:ext cx="44877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;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89F05-034E-4DD4-8145-EDCAEF3CE421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9960" y="27396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OV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tábláz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715000" y="457164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42360" y="5256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4-1)=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880" y="838080"/>
          <a:ext cx="85345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534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888AA-AD42-47F9-9BA8-1474D3A888F3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57200" y="3962520"/>
          <a:ext cx="7086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7086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0" y="0"/>
          <a:ext cx="5334120" cy="352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33412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334120" y="-3240"/>
            <a:ext cx="380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vanced Linear/Nonlinear Model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General Linear Models&gt;Factorial ANO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ans fülön: Observed, unweighted,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0640" y="342792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fülön: Al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14359-A955-4981-9D3F-F831336D665D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85800" y="2514600"/>
          <a:ext cx="533412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533412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85800" y="4267080"/>
          <a:ext cx="586728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586728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83280" y="38088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moszkedasztici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319720" y="533520"/>
                <a:ext cx="1417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7086600" y="53244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440" y="133668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re resul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Assumptions 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l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Homogeneity of var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EF60-A6BE-4670-9726-4298FD19FAC2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5800" y="182880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90760" y="37980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reziduumok vizsgá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0760" y="9558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siduals1 fülön: Pred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 res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315F-7112-49D0-A5E9-2527557DB778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7:27:07Z</dcterms:created>
  <dc:creator>Kemeny S.</dc:creator>
  <dc:description/>
  <dc:language>en-US</dc:language>
  <cp:lastModifiedBy>Sandor Kemeny</cp:lastModifiedBy>
  <cp:lastPrinted>2004-03-28T17:40:53Z</cp:lastPrinted>
  <dcterms:modified xsi:type="dcterms:W3CDTF">2008-04-14T15:39:22Z</dcterms:modified>
  <cp:revision>227</cp:revision>
  <dc:subject/>
  <dc:title>Folyamatkepessegi elemzes</dc:title>
</cp:coreProperties>
</file>